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A0A-AA88-4CD9-86E0-14AD54DA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F5C-AABC-4A31-901B-F9B782CE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2C5-2872-4A00-A79F-81B9C7A8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BF9-50B8-4A7C-B567-B15F71F1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B67-B6BF-458F-8532-95290328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605-58EE-4CB5-8735-AAC28314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541-4A56-4DB3-B5B8-6530AD36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DFA-7057-4475-B65B-4C35FEF9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361-DBED-4CF9-B139-BD3DC117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2A2-FFF2-41C3-BE83-21D4266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4EE-37AA-4AD8-90CD-6738B655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F7E-B53E-49DE-9D11-D2CF1F73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A803-42A0-4607-AF52-C50031113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0640" y="1371600"/>
            <a:ext cx="281916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0A200" descr=""/>
          <p:cNvPicPr/>
          <p:nvPr/>
        </p:nvPicPr>
        <p:blipFill>
          <a:blip r:embed="rId1"/>
          <a:stretch/>
        </p:blipFill>
        <p:spPr>
          <a:xfrm>
            <a:off x="3687840" y="169560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imes New Roman"/>
              </a:rPr>
              <a:t>the OAI: overview and historical contex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60" y="6248520"/>
            <a:ext cx="90676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OAI Open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Washington DC – January 2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48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bert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el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&amp; Carl Lago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rn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iversity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interest from other commun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52280" y="175248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igital Library Federation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~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esearch library community has many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or which they</a:t>
            </a: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would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like to ‘expose’ 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 San Antonio meet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~ interest from librarians, publishers, other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resulting actions: organizat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52280" y="990720"/>
            <a:ext cx="8991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stablish organizational stability for the O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nstitutional backing from CNI &amp; D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teering committee: policy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echnical committee: technical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xecutive group: day to day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orkshops: public dissemination,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resulting actions: techn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52280" y="990720"/>
            <a:ext cx="8991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9/2000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revise specifications to allow adoption beyond preprints: technical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9/2000-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ompile new specifications: editing by Carl and Herbe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11/2000-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alpha-test specifications: oai-alpha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discontinue the Santa Fe Con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[01/2001]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release version 1.0 of the OAI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core concepts in OAI 1.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52280" y="685800"/>
            <a:ext cx="89154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low-barrier 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-provider &amp; service-provider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etadata harvest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hared metadata format and parallel, community-specific metadata form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cceptable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41400" y="213372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OAI 1.0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80920" y="472428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ublin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54000" y="25909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TTP 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4440" y="541008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Community 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426640" y="3033720"/>
            <a:ext cx="3565080" cy="1015920"/>
            <a:chOff x="5426640" y="3033720"/>
            <a:chExt cx="3565080" cy="1015920"/>
          </a:xfrm>
        </p:grpSpPr>
        <p:sp>
          <p:nvSpPr>
            <p:cNvPr id="309" name=""/>
            <p:cNvSpPr/>
            <p:nvPr/>
          </p:nvSpPr>
          <p:spPr>
            <a:xfrm>
              <a:off x="5426640" y="3033720"/>
              <a:ext cx="9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Rep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3033720"/>
              <a:ext cx="259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b2b2b2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 </a:t>
              </a: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XML Schem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b2b2b2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 </a:t>
              </a:r>
              <a:r>
                <a:rPr b="0" lang="nl-BE" sz="2400" spc="-1" strike="noStrike">
                  <a:solidFill>
                    <a:srgbClr val="b2b2b2"/>
                  </a:solidFill>
                  <a:latin typeface="Comic Sans MS"/>
                </a:rPr>
                <a:t>Self contain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low-barrier interop umbrel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315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318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4876920" y="990720"/>
            <a:ext cx="2361960" cy="5714640"/>
            <a:chOff x="4876920" y="990720"/>
            <a:chExt cx="2361960" cy="5714640"/>
          </a:xfrm>
        </p:grpSpPr>
        <p:grpSp>
          <p:nvGrpSpPr>
            <p:cNvPr id="340" name=""/>
            <p:cNvGrpSpPr/>
            <p:nvPr/>
          </p:nvGrpSpPr>
          <p:grpSpPr>
            <a:xfrm>
              <a:off x="4876920" y="990720"/>
              <a:ext cx="533160" cy="1066680"/>
              <a:chOff x="4876920" y="990720"/>
              <a:chExt cx="533160" cy="1066680"/>
            </a:xfrm>
          </p:grpSpPr>
          <p:sp>
            <p:nvSpPr>
              <p:cNvPr id="341" name=""/>
              <p:cNvSpPr/>
              <p:nvPr/>
            </p:nvSpPr>
            <p:spPr>
              <a:xfrm>
                <a:off x="4876920" y="990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2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4905360" y="1357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3" name=""/>
            <p:cNvGrpSpPr/>
            <p:nvPr/>
          </p:nvGrpSpPr>
          <p:grpSpPr>
            <a:xfrm>
              <a:off x="5791320" y="2133720"/>
              <a:ext cx="533160" cy="1066680"/>
              <a:chOff x="5791320" y="2133720"/>
              <a:chExt cx="533160" cy="1066680"/>
            </a:xfrm>
          </p:grpSpPr>
          <p:sp>
            <p:nvSpPr>
              <p:cNvPr id="344" name=""/>
              <p:cNvSpPr/>
              <p:nvPr/>
            </p:nvSpPr>
            <p:spPr>
              <a:xfrm>
                <a:off x="5791320" y="2133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5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5819760" y="2500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6" name=""/>
            <p:cNvGrpSpPr/>
            <p:nvPr/>
          </p:nvGrpSpPr>
          <p:grpSpPr>
            <a:xfrm>
              <a:off x="6705720" y="3352680"/>
              <a:ext cx="533160" cy="1066680"/>
              <a:chOff x="6705720" y="3352680"/>
              <a:chExt cx="533160" cy="1066680"/>
            </a:xfrm>
          </p:grpSpPr>
          <p:sp>
            <p:nvSpPr>
              <p:cNvPr id="347" name=""/>
              <p:cNvSpPr/>
              <p:nvPr/>
            </p:nvSpPr>
            <p:spPr>
              <a:xfrm>
                <a:off x="6705720" y="3352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8" name="OA50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4160" y="3719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9" name=""/>
            <p:cNvGrpSpPr/>
            <p:nvPr/>
          </p:nvGrpSpPr>
          <p:grpSpPr>
            <a:xfrm>
              <a:off x="5791320" y="4495680"/>
              <a:ext cx="533160" cy="1066680"/>
              <a:chOff x="5791320" y="4495680"/>
              <a:chExt cx="533160" cy="1066680"/>
            </a:xfrm>
          </p:grpSpPr>
          <p:sp>
            <p:nvSpPr>
              <p:cNvPr id="350" name=""/>
              <p:cNvSpPr/>
              <p:nvPr/>
            </p:nvSpPr>
            <p:spPr>
              <a:xfrm>
                <a:off x="5791320" y="4495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1" name="OA50" descr=""/>
              <p:cNvPicPr/>
              <p:nvPr/>
            </p:nvPicPr>
            <p:blipFill>
              <a:blip r:embed="rId5"/>
              <a:stretch/>
            </p:blipFill>
            <p:spPr>
              <a:xfrm>
                <a:off x="5819760" y="4862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2" name=""/>
            <p:cNvGrpSpPr/>
            <p:nvPr/>
          </p:nvGrpSpPr>
          <p:grpSpPr>
            <a:xfrm>
              <a:off x="4876920" y="5638680"/>
              <a:ext cx="533160" cy="1066680"/>
              <a:chOff x="4876920" y="5638680"/>
              <a:chExt cx="533160" cy="1066680"/>
            </a:xfrm>
          </p:grpSpPr>
          <p:sp>
            <p:nvSpPr>
              <p:cNvPr id="353" name=""/>
              <p:cNvSpPr/>
              <p:nvPr/>
            </p:nvSpPr>
            <p:spPr>
              <a:xfrm>
                <a:off x="4876920" y="5638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4" name="OA50" descr=""/>
              <p:cNvPicPr/>
              <p:nvPr/>
            </p:nvPicPr>
            <p:blipFill>
              <a:blip r:embed="rId6"/>
              <a:stretch/>
            </p:blipFill>
            <p:spPr>
              <a:xfrm>
                <a:off x="4905360" y="6005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5" name=""/>
          <p:cNvGrpSpPr/>
          <p:nvPr/>
        </p:nvGrpSpPr>
        <p:grpSpPr>
          <a:xfrm>
            <a:off x="2057400" y="990720"/>
            <a:ext cx="533160" cy="1066680"/>
            <a:chOff x="2057400" y="990720"/>
            <a:chExt cx="533160" cy="1066680"/>
          </a:xfrm>
        </p:grpSpPr>
        <p:sp>
          <p:nvSpPr>
            <p:cNvPr id="356" name=""/>
            <p:cNvSpPr/>
            <p:nvPr/>
          </p:nvSpPr>
          <p:spPr>
            <a:xfrm>
              <a:off x="2057400" y="990720"/>
              <a:ext cx="533160" cy="10666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7" name="OA50" descr=""/>
            <p:cNvPicPr/>
            <p:nvPr/>
          </p:nvPicPr>
          <p:blipFill>
            <a:blip r:embed="rId7"/>
            <a:stretch/>
          </p:blipFill>
          <p:spPr>
            <a:xfrm>
              <a:off x="2085840" y="1357200"/>
              <a:ext cx="47628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359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819520" y="1523880"/>
            <a:ext cx="3581280" cy="4648320"/>
            <a:chOff x="2819520" y="1523880"/>
            <a:chExt cx="3581280" cy="4648320"/>
          </a:xfrm>
        </p:grpSpPr>
        <p:sp>
          <p:nvSpPr>
            <p:cNvPr id="362" name=""/>
            <p:cNvSpPr/>
            <p:nvPr/>
          </p:nvSpPr>
          <p:spPr>
            <a:xfrm>
              <a:off x="3733920" y="1523880"/>
              <a:ext cx="0" cy="4648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1523880"/>
              <a:ext cx="182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33920" y="266688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502920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61722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33920" y="3886200"/>
              <a:ext cx="2666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369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OPAC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372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imag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375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FTX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378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&amp;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381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low-barrier interop umbrel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387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390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411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412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415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OPAC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418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imag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421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FTX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424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&amp;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427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914400" y="1980720"/>
            <a:ext cx="380880" cy="914760"/>
            <a:chOff x="914400" y="1980720"/>
            <a:chExt cx="380880" cy="914760"/>
          </a:xfrm>
        </p:grpSpPr>
        <p:sp>
          <p:nvSpPr>
            <p:cNvPr id="430" name=""/>
            <p:cNvSpPr/>
            <p:nvPr/>
          </p:nvSpPr>
          <p:spPr>
            <a:xfrm flipV="1">
              <a:off x="914400" y="1980720"/>
              <a:ext cx="0" cy="83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295280" y="2057400"/>
              <a:ext cx="0" cy="838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286000" y="3400560"/>
            <a:ext cx="2057040" cy="946440"/>
            <a:chOff x="2286000" y="3400560"/>
            <a:chExt cx="2057040" cy="946440"/>
          </a:xfrm>
        </p:grpSpPr>
        <p:sp>
          <p:nvSpPr>
            <p:cNvPr id="433" name=""/>
            <p:cNvSpPr/>
            <p:nvPr/>
          </p:nvSpPr>
          <p:spPr>
            <a:xfrm>
              <a:off x="3202200" y="3400560"/>
              <a:ext cx="114084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uth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Tit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bstr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Identi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6000" y="3838680"/>
              <a:ext cx="838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495680" y="1676520"/>
            <a:ext cx="1447920" cy="4343400"/>
            <a:chOff x="4495680" y="1676520"/>
            <a:chExt cx="1447920" cy="4343400"/>
          </a:xfrm>
        </p:grpSpPr>
        <p:sp>
          <p:nvSpPr>
            <p:cNvPr id="436" name=""/>
            <p:cNvSpPr/>
            <p:nvPr/>
          </p:nvSpPr>
          <p:spPr>
            <a:xfrm flipV="1">
              <a:off x="4495680" y="1676520"/>
              <a:ext cx="762120" cy="2133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495680" y="2742840"/>
              <a:ext cx="1447920" cy="106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95680" y="3809880"/>
              <a:ext cx="76212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harvesting to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85880" y="274320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54100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5680" y="4876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448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449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50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1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452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455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456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57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459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harvesting to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255400" y="2257560"/>
            <a:ext cx="44812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uppor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Metadata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0" y="4205160"/>
            <a:ext cx="4572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arves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t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470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471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72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3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474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477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478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79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0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481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odes of running OAI 1.0 reposi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52280" y="685800"/>
            <a:ext cx="89154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ode 0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no registration of repository in the OAI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odes of running OAI 1.0 reposi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52280" y="685800"/>
            <a:ext cx="89154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od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gistration of repository in public OAI registry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[includes validation of repli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existence of the repository is 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81080"/>
            <a:ext cx="9142560" cy="246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nl-BE" sz="3200" spc="-1" strike="noStrike">
                <a:solidFill>
                  <a:srgbClr val="000000"/>
                </a:solidFill>
                <a:latin typeface="Times New Roman"/>
              </a:rPr>
              <a:t>Open Archiv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l-BE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tiative has been set up to create a forum to discuss and solve matters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operabilit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pri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lutions, as a way to promote their global accept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Ginsparg, Rick Luce &amp; Herbert Van de Somp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ori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odes of running OAI 1.0 reposi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52280" y="685800"/>
            <a:ext cx="8915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ode 2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gistration of repository in public OAI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usage of the OAI format for ident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resolver for OAI formated 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existence of the repository is 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tools to support OAI implem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52280" y="838080"/>
            <a:ext cx="89154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ussein’s Repository explor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XSV Schema Valid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XML S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he OAI comformance tester [soon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communication re O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52280" y="838080"/>
            <a:ext cx="8915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lists: subscribe via 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-general list [replaces UPS list; UPS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ubscribers will be moved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-implementers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eb: 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AQ: http://www.openarchives.org/faq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ail: openarchives@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280" y="1035000"/>
            <a:ext cx="8991720" cy="29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reeze specifications for 12 -18 month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le for experimentation; not defin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risk for early adop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e chances for future interoperability across comm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revision of specific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76320" y="1341360"/>
            <a:ext cx="89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Open Archives Initiative develops and promotes interoperability standards that aim to facilitate the efficient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semination of content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new OAI mission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2280" y="134136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Open Archives Initiative has its roots in an effort to enhance access to e-print archives as a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ans of increasing the availability of scholarly communication. 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Continued support of this work remains a cornerstone of the Open Archives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new OAI mission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4920" y="1341360"/>
            <a:ext cx="861048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fundamental technological framework and standards that are developing to support this work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, however, independent of the both the type of content offered and the economic mechanisms surrounding that content, and</a:t>
            </a:r>
            <a:r>
              <a:rPr b="0" i="1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mise to have much broader relevance in opening up access to a range of digital material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[..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new OAI mission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0A200" descr=""/>
          <p:cNvPicPr/>
          <p:nvPr/>
        </p:nvPicPr>
        <p:blipFill>
          <a:blip r:embed="rId1"/>
          <a:stretch/>
        </p:blipFill>
        <p:spPr>
          <a:xfrm>
            <a:off x="685800" y="270504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040920" y="256068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archives@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230640" y="1371600"/>
            <a:ext cx="281916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0A200" descr=""/>
          <p:cNvPicPr/>
          <p:nvPr/>
        </p:nvPicPr>
        <p:blipFill>
          <a:blip r:embed="rId1"/>
          <a:stretch/>
        </p:blipFill>
        <p:spPr>
          <a:xfrm>
            <a:off x="3687840" y="169560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imes New Roman"/>
              </a:rPr>
              <a:t>the oai-alpha 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160" y="6248520"/>
            <a:ext cx="90676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OAI Open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Washington DC – January 2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403848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bert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el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&amp; Carl Lago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rn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iversity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28600" y="990720"/>
            <a:ext cx="8763120" cy="38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 provi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rXiv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Los Alamos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NACA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N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ogPrint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Southamp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TD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Virginia 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hesis &amp; Dissertations from WorldCat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OC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merican Memory --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Library of Con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preprint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1036800"/>
            <a:ext cx="8915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ttractive building block in ongoing transformation of scholarly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nteroperability could increase impact of prepri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mongst preprint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ith building blocks that implement other functions of scholarly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with the established communication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28600" y="1200240"/>
            <a:ext cx="876312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 provi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einOnline law journal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Cornell U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TEI-lite collection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Tenness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TM publisher metadata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Illin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source Disovery Network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KOL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 Language Archive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Pennsylv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 Video Project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U Northern Carol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CI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8600" y="1200240"/>
            <a:ext cx="87631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 harvesting interface to Ex Libris Aleph 500 Integrated Library System 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Ex Lib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-source software capable of creating a merged catalog of metadata harvested from OAI-servers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OC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AI 1.O compliant eprints.org software --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 U Southamp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28600" y="1200240"/>
            <a:ext cx="87631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ervice provi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Repository explorer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Virginia 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RC service -- </a:t>
            </a:r>
            <a:r>
              <a:rPr b="0" lang="nl-BE" sz="3200" spc="-1" strike="noStrike">
                <a:solidFill>
                  <a:srgbClr val="b2b2b2"/>
                </a:solidFill>
                <a:latin typeface="Times New Roman"/>
              </a:rPr>
              <a:t>Old Dominion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alpha test of specs [11/2000-01/2001]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0A200" descr=""/>
          <p:cNvPicPr/>
          <p:nvPr/>
        </p:nvPicPr>
        <p:blipFill>
          <a:blip r:embed="rId1"/>
          <a:stretch/>
        </p:blipFill>
        <p:spPr>
          <a:xfrm>
            <a:off x="685800" y="270504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048120" y="201312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redits: oai-alpha group for a truly incredibly good j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pecial thanks: Hussein Suleman, Michael Nelson, Simeon Warner for playing a distinct enabling ro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0A200" descr=""/>
          <p:cNvPicPr/>
          <p:nvPr/>
        </p:nvPicPr>
        <p:blipFill>
          <a:blip r:embed="rId1"/>
          <a:stretch/>
        </p:blipFill>
        <p:spPr>
          <a:xfrm>
            <a:off x="685800" y="270504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040920" y="2560680"/>
            <a:ext cx="55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ttp://www.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openarchives@openarchives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58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e-print accessi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62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65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69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73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76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 flipH="1">
            <a:off x="2819520" y="2286000"/>
            <a:ext cx="1218960" cy="1600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819520" y="2819520"/>
            <a:ext cx="1752480" cy="106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819520" y="3886200"/>
            <a:ext cx="259056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819520" y="3885840"/>
            <a:ext cx="1752480" cy="106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19520" y="3885840"/>
            <a:ext cx="1218960" cy="1600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410080" y="1092240"/>
            <a:ext cx="1752480" cy="901800"/>
            <a:chOff x="5410080" y="1092240"/>
            <a:chExt cx="1752480" cy="901800"/>
          </a:xfrm>
        </p:grpSpPr>
        <p:sp>
          <p:nvSpPr>
            <p:cNvPr id="101" name=""/>
            <p:cNvSpPr/>
            <p:nvPr/>
          </p:nvSpPr>
          <p:spPr>
            <a:xfrm>
              <a:off x="5410080" y="109224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9720" y="111600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029200" y="838080"/>
            <a:ext cx="3276720" cy="3581640"/>
          </a:xfrm>
          <a:prstGeom prst="rect">
            <a:avLst/>
          </a:prstGeom>
          <a:solidFill>
            <a:srgbClr val="ffff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106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e-print accessi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110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113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14120" y="2246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117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121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5410080" y="1092240"/>
            <a:ext cx="1752480" cy="901800"/>
            <a:chOff x="5410080" y="1092240"/>
            <a:chExt cx="1752480" cy="901800"/>
          </a:xfrm>
        </p:grpSpPr>
        <p:sp>
          <p:nvSpPr>
            <p:cNvPr id="144" name=""/>
            <p:cNvSpPr/>
            <p:nvPr/>
          </p:nvSpPr>
          <p:spPr>
            <a:xfrm>
              <a:off x="5410080" y="109224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99720" y="111600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2286000" y="2743200"/>
            <a:ext cx="2362320" cy="11430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preprint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2280" y="838080"/>
            <a:ext cx="876312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anta Fe meeting: improve accessibility of prepr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by improving sear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ia the provision of an interoperability sp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920" y="76212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0" y="76320"/>
            <a:ext cx="914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Core concepts of Santa Fe con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80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914400"/>
            <a:ext cx="89154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low-barrier 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ata-provider &amp; service-provider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etadata harvest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hared metadata format and parallel, community-specific metadata form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cceptable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6560" y="2438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ienst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46800" y="49528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O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8880" y="35053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XML re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0240" y="29718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TTP 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9080" y="556272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ntelmen’s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etadata harv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167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876920" y="990720"/>
            <a:ext cx="2361960" cy="5714640"/>
            <a:chOff x="4876920" y="990720"/>
            <a:chExt cx="2361960" cy="5714640"/>
          </a:xfrm>
        </p:grpSpPr>
        <p:grpSp>
          <p:nvGrpSpPr>
            <p:cNvPr id="192" name=""/>
            <p:cNvGrpSpPr/>
            <p:nvPr/>
          </p:nvGrpSpPr>
          <p:grpSpPr>
            <a:xfrm>
              <a:off x="4876920" y="990720"/>
              <a:ext cx="533160" cy="1066680"/>
              <a:chOff x="4876920" y="990720"/>
              <a:chExt cx="533160" cy="1066680"/>
            </a:xfrm>
          </p:grpSpPr>
          <p:sp>
            <p:nvSpPr>
              <p:cNvPr id="193" name=""/>
              <p:cNvSpPr/>
              <p:nvPr/>
            </p:nvSpPr>
            <p:spPr>
              <a:xfrm>
                <a:off x="4876920" y="990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4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4905360" y="1357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5791320" y="2133720"/>
              <a:ext cx="533160" cy="1066680"/>
              <a:chOff x="5791320" y="2133720"/>
              <a:chExt cx="533160" cy="1066680"/>
            </a:xfrm>
          </p:grpSpPr>
          <p:sp>
            <p:nvSpPr>
              <p:cNvPr id="196" name=""/>
              <p:cNvSpPr/>
              <p:nvPr/>
            </p:nvSpPr>
            <p:spPr>
              <a:xfrm>
                <a:off x="5791320" y="213372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7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5819760" y="25002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8" name=""/>
            <p:cNvGrpSpPr/>
            <p:nvPr/>
          </p:nvGrpSpPr>
          <p:grpSpPr>
            <a:xfrm>
              <a:off x="6705720" y="3352680"/>
              <a:ext cx="533160" cy="1066680"/>
              <a:chOff x="6705720" y="3352680"/>
              <a:chExt cx="533160" cy="1066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705720" y="3352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0" name="OA50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4160" y="3719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1" name=""/>
            <p:cNvGrpSpPr/>
            <p:nvPr/>
          </p:nvGrpSpPr>
          <p:grpSpPr>
            <a:xfrm>
              <a:off x="5791320" y="4495680"/>
              <a:ext cx="533160" cy="1066680"/>
              <a:chOff x="5791320" y="4495680"/>
              <a:chExt cx="533160" cy="106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5791320" y="4495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3" name="OA50" descr=""/>
              <p:cNvPicPr/>
              <p:nvPr/>
            </p:nvPicPr>
            <p:blipFill>
              <a:blip r:embed="rId5"/>
              <a:stretch/>
            </p:blipFill>
            <p:spPr>
              <a:xfrm>
                <a:off x="5819760" y="4862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4" name=""/>
            <p:cNvGrpSpPr/>
            <p:nvPr/>
          </p:nvGrpSpPr>
          <p:grpSpPr>
            <a:xfrm>
              <a:off x="4876920" y="5638680"/>
              <a:ext cx="533160" cy="1066680"/>
              <a:chOff x="4876920" y="5638680"/>
              <a:chExt cx="533160" cy="1066680"/>
            </a:xfrm>
          </p:grpSpPr>
          <p:sp>
            <p:nvSpPr>
              <p:cNvPr id="205" name=""/>
              <p:cNvSpPr/>
              <p:nvPr/>
            </p:nvSpPr>
            <p:spPr>
              <a:xfrm>
                <a:off x="4876920" y="5638680"/>
                <a:ext cx="53316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6" name="OA50" descr=""/>
              <p:cNvPicPr/>
              <p:nvPr/>
            </p:nvPicPr>
            <p:blipFill>
              <a:blip r:embed="rId6"/>
              <a:stretch/>
            </p:blipFill>
            <p:spPr>
              <a:xfrm>
                <a:off x="4905360" y="600516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7" name=""/>
          <p:cNvGrpSpPr/>
          <p:nvPr/>
        </p:nvGrpSpPr>
        <p:grpSpPr>
          <a:xfrm>
            <a:off x="2057400" y="990720"/>
            <a:ext cx="533160" cy="1066680"/>
            <a:chOff x="2057400" y="990720"/>
            <a:chExt cx="533160" cy="1066680"/>
          </a:xfrm>
        </p:grpSpPr>
        <p:sp>
          <p:nvSpPr>
            <p:cNvPr id="208" name=""/>
            <p:cNvSpPr/>
            <p:nvPr/>
          </p:nvSpPr>
          <p:spPr>
            <a:xfrm>
              <a:off x="2057400" y="990720"/>
              <a:ext cx="533160" cy="10666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9" name="OA50" descr=""/>
            <p:cNvPicPr/>
            <p:nvPr/>
          </p:nvPicPr>
          <p:blipFill>
            <a:blip r:embed="rId7"/>
            <a:stretch/>
          </p:blipFill>
          <p:spPr>
            <a:xfrm>
              <a:off x="2085840" y="1357200"/>
              <a:ext cx="47628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211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214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217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220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223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819520" y="1523880"/>
            <a:ext cx="3581280" cy="4648320"/>
            <a:chOff x="2819520" y="1523880"/>
            <a:chExt cx="3581280" cy="4648320"/>
          </a:xfrm>
        </p:grpSpPr>
        <p:sp>
          <p:nvSpPr>
            <p:cNvPr id="226" name=""/>
            <p:cNvSpPr/>
            <p:nvPr/>
          </p:nvSpPr>
          <p:spPr>
            <a:xfrm>
              <a:off x="3733920" y="1523880"/>
              <a:ext cx="0" cy="4648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19520" y="1523880"/>
              <a:ext cx="182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33920" y="266688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3920" y="5029200"/>
              <a:ext cx="1676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3920" y="61722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33920" y="3886200"/>
              <a:ext cx="2666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401880" y="228600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pr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6324480" y="2222640"/>
            <a:ext cx="1752480" cy="901440"/>
            <a:chOff x="6324480" y="2222640"/>
            <a:chExt cx="1752480" cy="901440"/>
          </a:xfrm>
        </p:grpSpPr>
        <p:sp>
          <p:nvSpPr>
            <p:cNvPr id="234" name=""/>
            <p:cNvSpPr/>
            <p:nvPr/>
          </p:nvSpPr>
          <p:spPr>
            <a:xfrm>
              <a:off x="6324480" y="2222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14120" y="2246040"/>
              <a:ext cx="1546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metadata harv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360" y="65768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bert van de somp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2280" y="3114720"/>
            <a:ext cx="1981440" cy="1447560"/>
            <a:chOff x="152280" y="3114720"/>
            <a:chExt cx="1981440" cy="1447560"/>
          </a:xfrm>
        </p:grpSpPr>
        <p:sp>
          <p:nvSpPr>
            <p:cNvPr id="240" name=""/>
            <p:cNvSpPr/>
            <p:nvPr/>
          </p:nvSpPr>
          <p:spPr>
            <a:xfrm>
              <a:off x="152280" y="3114720"/>
              <a:ext cx="19814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80880" y="3476520"/>
              <a:ext cx="1434960" cy="856800"/>
              <a:chOff x="380880" y="3476520"/>
              <a:chExt cx="1434960" cy="8568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1098360" y="3476520"/>
                <a:ext cx="495000" cy="355680"/>
                <a:chOff x="1098360" y="3476520"/>
                <a:chExt cx="495000" cy="355680"/>
              </a:xfrm>
            </p:grpSpPr>
            <p:sp>
              <p:nvSpPr>
                <p:cNvPr id="243" name=""/>
                <p:cNvSpPr/>
                <p:nvPr/>
              </p:nvSpPr>
              <p:spPr>
                <a:xfrm flipH="1">
                  <a:off x="1224720" y="3666960"/>
                  <a:ext cx="24156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1098000" y="3743280"/>
                  <a:ext cx="495000" cy="88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1186920" y="3476520"/>
                  <a:ext cx="317520" cy="241200"/>
                  <a:chOff x="1186920" y="3476520"/>
                  <a:chExt cx="317520" cy="2412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>
                    <a:off x="1186920" y="3476520"/>
                    <a:ext cx="31752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>
                    <a:off x="1212120" y="3502080"/>
                    <a:ext cx="266760" cy="20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1149480" y="37814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49480" y="3806640"/>
                  <a:ext cx="406440" cy="0"/>
                </a:xfrm>
                <a:prstGeom prst="line">
                  <a:avLst/>
                </a:prstGeom>
                <a:ln w="1260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901440" y="3902040"/>
                <a:ext cx="9144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066320" y="3914640"/>
                <a:ext cx="50760" cy="3812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599840" y="3901680"/>
                <a:ext cx="50760" cy="43164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00760" y="352116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7000" y="3654360"/>
                <a:ext cx="0" cy="59688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0880" y="4029120"/>
                <a:ext cx="304920" cy="12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2280" y="4048200"/>
                <a:ext cx="50760" cy="22860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55400" y="36162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0" y="0"/>
                    </a:moveTo>
                    <a:lnTo>
                      <a:pt x="64" y="104"/>
                    </a:lnTo>
                    <a:lnTo>
                      <a:pt x="64" y="216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4240" y="3971880"/>
                <a:ext cx="3175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8800" y="3997440"/>
                <a:ext cx="76320" cy="2919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799920" y="4251240"/>
                <a:ext cx="101520" cy="3816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80240" y="374328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280" y="0"/>
                    </a:moveTo>
                    <a:lnTo>
                      <a:pt x="144" y="5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322200" y="1219320"/>
            <a:ext cx="17352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914400" y="1980720"/>
            <a:ext cx="380880" cy="914760"/>
            <a:chOff x="914400" y="1980720"/>
            <a:chExt cx="380880" cy="914760"/>
          </a:xfrm>
        </p:grpSpPr>
        <p:sp>
          <p:nvSpPr>
            <p:cNvPr id="265" name=""/>
            <p:cNvSpPr/>
            <p:nvPr/>
          </p:nvSpPr>
          <p:spPr>
            <a:xfrm flipV="1">
              <a:off x="914400" y="1980720"/>
              <a:ext cx="0" cy="83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295280" y="2057400"/>
              <a:ext cx="0" cy="838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86000" y="3400560"/>
            <a:ext cx="2057040" cy="946440"/>
            <a:chOff x="2286000" y="3400560"/>
            <a:chExt cx="2057040" cy="946440"/>
          </a:xfrm>
        </p:grpSpPr>
        <p:sp>
          <p:nvSpPr>
            <p:cNvPr id="268" name=""/>
            <p:cNvSpPr/>
            <p:nvPr/>
          </p:nvSpPr>
          <p:spPr>
            <a:xfrm>
              <a:off x="3202200" y="3400560"/>
              <a:ext cx="114084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uth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Tit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Abstr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Courier New"/>
                </a:rPr>
                <a:t>Identi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286000" y="3838680"/>
              <a:ext cx="838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H="1">
            <a:off x="4419720" y="2819520"/>
            <a:ext cx="1752480" cy="106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238880" y="3387600"/>
            <a:ext cx="1752480" cy="901800"/>
            <a:chOff x="7238880" y="3387600"/>
            <a:chExt cx="1752480" cy="901800"/>
          </a:xfrm>
        </p:grpSpPr>
        <p:sp>
          <p:nvSpPr>
            <p:cNvPr id="272" name=""/>
            <p:cNvSpPr/>
            <p:nvPr/>
          </p:nvSpPr>
          <p:spPr>
            <a:xfrm>
              <a:off x="7238880" y="33876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28520" y="34113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410080" y="5715000"/>
            <a:ext cx="1752480" cy="901800"/>
            <a:chOff x="5410080" y="5715000"/>
            <a:chExt cx="1752480" cy="901800"/>
          </a:xfrm>
        </p:grpSpPr>
        <p:sp>
          <p:nvSpPr>
            <p:cNvPr id="275" name=""/>
            <p:cNvSpPr/>
            <p:nvPr/>
          </p:nvSpPr>
          <p:spPr>
            <a:xfrm>
              <a:off x="5410080" y="5715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720" y="5738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324480" y="4572000"/>
            <a:ext cx="1752480" cy="901800"/>
            <a:chOff x="6324480" y="4572000"/>
            <a:chExt cx="1752480" cy="901800"/>
          </a:xfrm>
        </p:grpSpPr>
        <p:sp>
          <p:nvSpPr>
            <p:cNvPr id="278" name=""/>
            <p:cNvSpPr/>
            <p:nvPr/>
          </p:nvSpPr>
          <p:spPr>
            <a:xfrm>
              <a:off x="6324480" y="4572000"/>
              <a:ext cx="1752480" cy="9018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14120" y="459576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10080" y="1079640"/>
            <a:ext cx="1752480" cy="901440"/>
            <a:chOff x="5410080" y="1079640"/>
            <a:chExt cx="1752480" cy="901440"/>
          </a:xfrm>
        </p:grpSpPr>
        <p:sp>
          <p:nvSpPr>
            <p:cNvPr id="281" name=""/>
            <p:cNvSpPr/>
            <p:nvPr/>
          </p:nvSpPr>
          <p:spPr>
            <a:xfrm>
              <a:off x="5410080" y="1079640"/>
              <a:ext cx="1752480" cy="90144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99720" y="1103040"/>
              <a:ext cx="1546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e-prin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401880" y="228600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pr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15:34:48Z</dcterms:created>
  <dc:creator>165868</dc:creator>
  <dc:description/>
  <dc:language>en-US</dc:language>
  <cp:lastModifiedBy>herbertv</cp:lastModifiedBy>
  <dcterms:modified xsi:type="dcterms:W3CDTF">2001-01-22T01:30:19Z</dcterms:modified>
  <cp:revision>456</cp:revision>
  <dc:subject/>
  <dc:title>No Slide Title</dc:title>
</cp:coreProperties>
</file>